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C282-6EE8-4692-A5AE-EFC446EBA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8B3C-AC3B-47F7-AB0D-F9D6E771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17C6-BD82-4A2D-B724-7BC542298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216A-1DD2-45EF-A02E-1D0A619FD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B3BD-9440-41F8-9C53-BE6EDAFA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F361-0D0F-41BE-A4CA-F153AB482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4E2B-D7BB-4E12-8505-22A94DE4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22A3-35A5-4D45-881E-9372F93B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9630-43AC-40DE-82B7-43BBCF8D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39B4-25ED-4F02-A66E-50C61356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F28F-82A8-4076-91EC-EBFB2193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E771-9B0B-4BF8-A8DC-F23348E8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3335-BCB7-4F86-84B7-2EC8BCBFF57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:Practice 1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8.1 DEPONENT 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214200" y="1214280"/>
            <a:ext cx="5572080" cy="51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arse the following (all are deponent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ἐρχοντα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ἐλογιζετ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συνηρχομη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ἀρνησαμενο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δεξετα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ἁπτο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εἰσερχομενο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ἐργαζομενο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ἀσπαζεσθ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3000240" y="20080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sent Indicative 3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l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3000240" y="24750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mperfect Indicative 3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in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3000240" y="29685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mperfect Indicative 1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in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0"/>
          <p:cNvSpPr/>
          <p:nvPr/>
        </p:nvSpPr>
        <p:spPr>
          <a:xfrm>
            <a:off x="3000240" y="345276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orist Participle Singular (masculine nomina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1"/>
          <p:cNvSpPr/>
          <p:nvPr/>
        </p:nvSpPr>
        <p:spPr>
          <a:xfrm>
            <a:off x="3000240" y="39117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uture Indicative 3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in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2"/>
          <p:cNvSpPr/>
          <p:nvPr/>
        </p:nvSpPr>
        <p:spPr>
          <a:xfrm>
            <a:off x="3000240" y="43974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sent Imperative 2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in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3"/>
          <p:cNvSpPr/>
          <p:nvPr/>
        </p:nvSpPr>
        <p:spPr>
          <a:xfrm>
            <a:off x="3000240" y="4900680"/>
            <a:ext cx="61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sent  Participle Plural (masculine nomina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4"/>
          <p:cNvSpPr/>
          <p:nvPr/>
        </p:nvSpPr>
        <p:spPr>
          <a:xfrm>
            <a:off x="3000240" y="53863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sent  Participle Singular (masculine nomina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5"/>
          <p:cNvSpPr/>
          <p:nvPr/>
        </p:nvSpPr>
        <p:spPr>
          <a:xfrm>
            <a:off x="3000240" y="58690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sent Indicative 2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lural or Present Imperative 2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lu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:Practice 2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8.1 DEPONENT 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214200" y="1643040"/>
            <a:ext cx="764388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ut the following verbs in the form indic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λεπω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sent 3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l. Indic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ρχομ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sent 3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ing. Indic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εχομ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mperfect 2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l. Indic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ρχομ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orist Masc. Nom. Pl. Partic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γραφω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uture 1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l. Indic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6500880" y="244008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λεπουσι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6500880" y="298620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ρχετα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6497640" y="3544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δεχεσθ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6500880" y="409716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ρξαμενο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6500880" y="463248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γραψομε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:Practice 3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8.1 DEPONENT 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214200" y="1643040"/>
            <a:ext cx="764388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ut the following verbs in the form indic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ξερχομαι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sent Imperative P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ογιζομ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orist 3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l. Indic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ειθω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sent Masc. Nom. Sing. Partic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ροσευχομ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sent Infin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ρνεομ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mperfect 3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l. Indic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6500880" y="244008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ξερχεσθ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6500880" y="298620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λογισαντ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6497640" y="3544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ειθ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6500880" y="409716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ροσευχεσθα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6500880" y="463248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ἠρνουντ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:Practice 4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244440" y="1262160"/>
            <a:ext cx="5113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ρχονται εἰς το ἱερ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θελω ῥυσασθαι αὐτ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εχεσθε τον λογ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κουσαντες ἠρξαντο ἐρχεσθ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περχομενος ἐδοξαζεν τον θε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μελλω προσευχεσθαι λεγων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4572000" y="192708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are coming into the te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4572000" y="267660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wish to rescue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4572000" y="3392640"/>
            <a:ext cx="45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(pl.) are receiving the word. (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‘Receive the word!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4572000" y="412920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fter they heard, they began to 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4572000" y="4854600"/>
            <a:ext cx="45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s he was leaving, he was glorifying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4572000" y="558972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am about to pray, say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:Practice 5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244440" y="1262160"/>
            <a:ext cx="51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ἱ Ἰουδαιοι ἐξερχονται ἐ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4572000" y="192708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Jews are leaving the synagog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4572000" y="278748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 not preach the good new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4572000" y="3414600"/>
            <a:ext cx="45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ἱ Φαρισαιοι ἠρξαντο  ἐργασασθαι (ἐργαζεσθα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4572000" y="464040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ἠσπαζοντο τους πονηρου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4572000" y="525312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ρνησομαι τηρειν τον νομο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9"/>
          <p:cNvSpPr/>
          <p:nvPr/>
        </p:nvSpPr>
        <p:spPr>
          <a:xfrm>
            <a:off x="4572000" y="586584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ει εἰσερχεσθαι εἰς το ἱερ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558360" y="2049480"/>
            <a:ext cx="214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ης συναγωγ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244440" y="2500200"/>
            <a:ext cx="457200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μη εὐαγγελιζεσθ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Pharisees began to work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were greeting the wicked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will refuse to keep the law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is necessary to go into the te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:Practice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244440" y="77760"/>
            <a:ext cx="8628120" cy="10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8.2 IMPERFECT, FUTURE AND OTHER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ODS OF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εἰμ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214200" y="1285920"/>
            <a:ext cx="6143760" cy="48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ἁγιαι ἠσαν αἱ ἐντολ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Δαυιδ ἠν μεγα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θελω εἰναι μετ’ αὐτ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φιλων θεον ἐσται μακαρι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ροσηυχετο ὠν ἁγι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children were al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laves will be de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eing Jewish, we wish to en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ynagog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4303800" y="18032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commandments were ho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4300560" y="23716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vid was gre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4300560" y="29145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wish to be with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4286160" y="3462480"/>
            <a:ext cx="514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one who loves God will be bles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4286160" y="40179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eing holy, he was pray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9"/>
          <p:cNvSpPr/>
          <p:nvPr/>
        </p:nvSpPr>
        <p:spPr>
          <a:xfrm>
            <a:off x="4286160" y="4465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α τεκνα ἠν μον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0"/>
          <p:cNvSpPr/>
          <p:nvPr/>
        </p:nvSpPr>
        <p:spPr>
          <a:xfrm>
            <a:off x="4286160" y="49212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νεκροι ἐσονται οἱ δουλο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1"/>
          <p:cNvSpPr/>
          <p:nvPr/>
        </p:nvSpPr>
        <p:spPr>
          <a:xfrm>
            <a:off x="4286160" y="5391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Ἰουδαιοι ὀντες θελομεν εἰσερχεσθαι εἰς την συναγωγη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:Practice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7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24444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8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NOUNS OF CONFUSING GEND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71280" y="1211400"/>
            <a:ext cx="64296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μαθηται αὐτου ἐρχοντα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λεγεν τῳ Ἰουδ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ἀδελφος δεξεται τον Ἰωαννη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λλοι στρατιωται προσηρχοντο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4786200" y="211608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s disciples are going/com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4786200" y="272268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was speaking to Ju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7"/>
          <p:cNvSpPr/>
          <p:nvPr/>
        </p:nvSpPr>
        <p:spPr>
          <a:xfrm>
            <a:off x="4786200" y="333864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brother will receive Joh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8"/>
          <p:cNvSpPr/>
          <p:nvPr/>
        </p:nvSpPr>
        <p:spPr>
          <a:xfrm>
            <a:off x="4786200" y="3956040"/>
            <a:ext cx="478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y soldiers w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roa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71280" y="4697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esus was proclaiming the 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0"/>
          <p:cNvSpPr/>
          <p:nvPr/>
        </p:nvSpPr>
        <p:spPr>
          <a:xfrm>
            <a:off x="4786200" y="4813200"/>
            <a:ext cx="385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Ἰησους ἐκηρυσσεν την ὁδ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125640" y="5548320"/>
            <a:ext cx="395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rophets were not ho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2"/>
          <p:cNvSpPr/>
          <p:nvPr/>
        </p:nvSpPr>
        <p:spPr>
          <a:xfrm>
            <a:off x="4786200" y="5640480"/>
            <a:ext cx="5072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προφηται οὐκ ἠσαν ἁγιο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22:20:43Z</dcterms:created>
  <dc:creator>Sarah</dc:creator>
  <dc:description/>
  <dc:language>en-US</dc:language>
  <cp:lastModifiedBy>Sarah</cp:lastModifiedBy>
  <dcterms:modified xsi:type="dcterms:W3CDTF">2009-03-03T19:23:39Z</dcterms:modified>
  <cp:revision>60</cp:revision>
  <dc:subject/>
  <dc:title>Slide 1</dc:title>
</cp:coreProperties>
</file>